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8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9960" y="750600"/>
            <a:ext cx="500688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151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2B6612-7871-4BA4-81BE-ABAFA63C32E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268592-54DA-49C1-8E5D-07DC04A9E4D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5B385D-465D-453E-8C43-AFD3E318583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C3984C-7910-42F1-8D8D-931C8003235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349799-96DB-4FAB-A283-E13329BC9696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921879-5E0F-4EEE-B0DA-8968A075E2BE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B1F0E5-41FC-4422-BAC1-96CD1DAB1AF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250129-EBEA-4D73-BC77-B76B8BBD34A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AA6202-0AF6-46E9-8B35-3D9E1CEB300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710BB9-208A-44BA-9465-C966862ED1A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4B2B51-8D61-4D0C-B522-F427C3D76C6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08BA31-8E7C-4C12-A035-75C0820AD27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19ABFF-BF2D-41C4-AA59-C2E263808C2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910F1C-DD27-4277-BDF3-6B5726FFDE7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EB0BBB-7D4F-49A8-B968-6BFCB2C3E8F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325B68-36B8-480F-AE2E-A53627364E4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136E9E-D432-4CEE-9391-153CED5A65C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605F7F-BA1F-47DD-8BB1-B6E286BEC77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0E6389-C5E0-4F8F-A413-8D16B9B1B5C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900600" y="95155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2120"/>
                <a:tab algn="l" pos="2897280"/>
                <a:tab algn="l" pos="3863880"/>
                <a:tab algn="l" pos="4829040"/>
                <a:tab algn="l" pos="5796000"/>
                <a:tab algn="l" pos="6761160"/>
                <a:tab algn="l" pos="7728120"/>
                <a:tab algn="l" pos="8693280"/>
                <a:tab algn="l" pos="9659880"/>
                <a:tab algn="l" pos="10625040"/>
                <a:tab algn="l" pos="10917360"/>
              </a:tabLst>
            </a:pPr>
            <a:fld id="{EE50D3FD-0B14-454B-BD54-3F66F3307C3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C69-9D85-4933-83F7-FAB85F90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1E9-3C56-4EDB-B99B-632BA309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757-46E0-4730-8641-781822A0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B03-A0F4-4E55-98A5-E2166783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8D5-AF59-45DD-9D7F-215F6E38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DB3-B5B9-4031-825E-1F6536A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B99-5C8B-4BC2-93CF-9C98FBA9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68D-818C-47C2-8B82-5CAC033A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2EE-58E9-4B4D-9AD9-9947A2F2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A23-C767-4ED6-90B9-DF8A88E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52E-DCFA-4D5C-95BF-6408804A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73C-5661-4D86-B1E1-4107383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94C92-E735-487E-9289-705E6D67C84F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CICLO DE KREBS. Generalidades. Descarboxilación oxidativa: complejo de la piruvato deshidrogenasa. Regulación. Destino de la acetil CoA. Reacciones del cicl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 del cicl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lización mitocondrial. Translocasas. Lanzadera malato-aspartato.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 Función anfibólica. VIA DE LAS PENTOSAS. Etapas. Función. Enzimas implicadas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Descarboxilación oxidativa del piruvato, complejo de la piruvato deshidrogenasa. Regulación. CICLO DE KREBS. Destino de la Acetil-CoA. Mecanismo enzimá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ción mitocondrial. Translocasas. Lanzadera malato-aspartat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Función anfibólica. Reacciones anaplerótic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VÍA DE LAS PENTOSAS FOSFATO. Etapas. Función. Enzimas implicadas. Relación con la glucólisis. Importancia metab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upo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Imagen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CuadroTexto 7"/>
            <p:cNvSpPr/>
            <p:nvPr/>
          </p:nvSpPr>
          <p:spPr>
            <a:xfrm>
              <a:off x="121680" y="548640"/>
              <a:ext cx="4193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Arial Narrow"/>
                </a:rPr>
                <a:t>Fase Oxidativa de la Vía de las Pen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CuadroTexto 8"/>
            <p:cNvSpPr/>
            <p:nvPr/>
          </p:nvSpPr>
          <p:spPr>
            <a:xfrm>
              <a:off x="4454640" y="542160"/>
              <a:ext cx="4565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Arial Narrow"/>
                </a:rPr>
                <a:t>Fase  No-oxidativa de la Vía de las Pen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CuadroTexto 2" descr=""/>
          <p:cNvPicPr/>
          <p:nvPr/>
        </p:nvPicPr>
        <p:blipFill>
          <a:blip r:embed="rId2"/>
          <a:stretch/>
        </p:blipFill>
        <p:spPr>
          <a:xfrm>
            <a:off x="176040" y="1195560"/>
            <a:ext cx="824040" cy="925200"/>
          </a:xfrm>
          <a:prstGeom prst="rect">
            <a:avLst/>
          </a:prstGeom>
          <a:ln w="0">
            <a:noFill/>
          </a:ln>
        </p:spPr>
      </p:pic>
      <p:pic>
        <p:nvPicPr>
          <p:cNvPr id="171" name="CuadroTexto 3" descr=""/>
          <p:cNvPicPr/>
          <p:nvPr/>
        </p:nvPicPr>
        <p:blipFill>
          <a:blip r:embed="rId3"/>
          <a:stretch/>
        </p:blipFill>
        <p:spPr>
          <a:xfrm>
            <a:off x="4498920" y="1195560"/>
            <a:ext cx="822240" cy="925200"/>
          </a:xfrm>
          <a:prstGeom prst="rect">
            <a:avLst/>
          </a:prstGeom>
          <a:ln w="0">
            <a:noFill/>
          </a:ln>
        </p:spPr>
      </p:pic>
      <p:sp>
        <p:nvSpPr>
          <p:cNvPr id="172" name="Flecha doblada 4"/>
          <p:cNvSpPr/>
          <p:nvPr/>
        </p:nvSpPr>
        <p:spPr>
          <a:xfrm>
            <a:off x="4176720" y="981000"/>
            <a:ext cx="790560" cy="4608720"/>
          </a:xfrm>
          <a:custGeom>
            <a:avLst/>
            <a:gdLst/>
            <a:ahLst/>
            <a:rect l="l" t="t" r="r" b="b"/>
            <a:pathLst>
              <a:path w="792088" h="4608512">
                <a:moveTo>
                  <a:pt x="0" y="4608512"/>
                </a:moveTo>
                <a:lnTo>
                  <a:pt x="0" y="445550"/>
                </a:lnTo>
                <a:cubicBezTo>
                  <a:pt x="0" y="254162"/>
                  <a:pt x="155151" y="99011"/>
                  <a:pt x="346539" y="99011"/>
                </a:cubicBezTo>
                <a:lnTo>
                  <a:pt x="594066" y="99011"/>
                </a:lnTo>
                <a:lnTo>
                  <a:pt x="594066" y="0"/>
                </a:lnTo>
                <a:lnTo>
                  <a:pt x="792088" y="198022"/>
                </a:lnTo>
                <a:lnTo>
                  <a:pt x="594066" y="396044"/>
                </a:lnTo>
                <a:lnTo>
                  <a:pt x="594066" y="297033"/>
                </a:lnTo>
                <a:lnTo>
                  <a:pt x="346539" y="297033"/>
                </a:lnTo>
                <a:cubicBezTo>
                  <a:pt x="264515" y="297033"/>
                  <a:pt x="198022" y="363526"/>
                  <a:pt x="198022" y="445550"/>
                </a:cubicBezTo>
                <a:lnTo>
                  <a:pt x="198022" y="4608512"/>
                </a:lnTo>
                <a:lnTo>
                  <a:pt x="0" y="4608512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Elipse 5"/>
          <p:cNvSpPr/>
          <p:nvPr/>
        </p:nvSpPr>
        <p:spPr>
          <a:xfrm>
            <a:off x="1258920" y="5229360"/>
            <a:ext cx="1944720" cy="72072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Elipse 6"/>
          <p:cNvSpPr/>
          <p:nvPr/>
        </p:nvSpPr>
        <p:spPr>
          <a:xfrm>
            <a:off x="5646600" y="907920"/>
            <a:ext cx="1944720" cy="43344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Comic Sans MS"/>
              </a:rPr>
              <a:t>CARACTERISTICAS DE LAS REACCIONES DE LA VIA DE LAS PENTO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1)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2)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no 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a reacciones de la fase oxidativa son ir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Las reacciones de la fase no oxidativa son 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8640" y="276120"/>
            <a:ext cx="822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1430280" y="3933720"/>
            <a:ext cx="2131920" cy="2642760"/>
            <a:chOff x="1430280" y="3933720"/>
            <a:chExt cx="2131920" cy="2642760"/>
          </a:xfrm>
        </p:grpSpPr>
        <p:sp>
          <p:nvSpPr>
            <p:cNvPr id="181" name="Rectangle 3"/>
            <p:cNvSpPr/>
            <p:nvPr/>
          </p:nvSpPr>
          <p:spPr>
            <a:xfrm>
              <a:off x="1430280" y="6100560"/>
              <a:ext cx="21319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Picture 4" descr=""/>
            <p:cNvPicPr/>
            <p:nvPr/>
          </p:nvPicPr>
          <p:blipFill>
            <a:blip r:embed="rId1"/>
            <a:stretch/>
          </p:blipFill>
          <p:spPr>
            <a:xfrm>
              <a:off x="1584000" y="3933720"/>
              <a:ext cx="1582920" cy="25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5"/>
            <p:cNvSpPr/>
            <p:nvPr/>
          </p:nvSpPr>
          <p:spPr>
            <a:xfrm>
              <a:off x="1441080" y="6092640"/>
              <a:ext cx="2064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6"/>
          <p:cNvGrpSpPr/>
          <p:nvPr/>
        </p:nvGrpSpPr>
        <p:grpSpPr>
          <a:xfrm>
            <a:off x="3492360" y="3933720"/>
            <a:ext cx="4965840" cy="2521080"/>
            <a:chOff x="3492360" y="3933720"/>
            <a:chExt cx="4965840" cy="2521080"/>
          </a:xfrm>
        </p:grpSpPr>
        <p:grpSp>
          <p:nvGrpSpPr>
            <p:cNvPr id="185" name="Group 7"/>
            <p:cNvGrpSpPr/>
            <p:nvPr/>
          </p:nvGrpSpPr>
          <p:grpSpPr>
            <a:xfrm>
              <a:off x="3492360" y="4581360"/>
              <a:ext cx="2806920" cy="1354320"/>
              <a:chOff x="3492360" y="4581360"/>
              <a:chExt cx="2806920" cy="1354320"/>
            </a:xfrm>
          </p:grpSpPr>
          <p:sp>
            <p:nvSpPr>
              <p:cNvPr id="186" name="Line 8"/>
              <p:cNvSpPr/>
              <p:nvPr/>
            </p:nvSpPr>
            <p:spPr>
              <a:xfrm>
                <a:off x="3492360" y="5188680"/>
                <a:ext cx="280692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9"/>
              <p:cNvSpPr/>
              <p:nvPr/>
            </p:nvSpPr>
            <p:spPr>
              <a:xfrm>
                <a:off x="3506400" y="4581360"/>
                <a:ext cx="923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4268160" y="4581360"/>
                <a:ext cx="1454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3963600" y="4917600"/>
                <a:ext cx="672840" cy="23004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4" h="145">
                    <a:moveTo>
                      <a:pt x="0" y="0"/>
                    </a:moveTo>
                    <a:lnTo>
                      <a:pt x="1" y="15"/>
                    </a:lnTo>
                    <a:lnTo>
                      <a:pt x="3" y="29"/>
                    </a:lnTo>
                    <a:lnTo>
                      <a:pt x="7" y="43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6" y="81"/>
                    </a:lnTo>
                    <a:lnTo>
                      <a:pt x="35" y="92"/>
                    </a:lnTo>
                    <a:lnTo>
                      <a:pt x="39" y="97"/>
                    </a:lnTo>
                    <a:lnTo>
                      <a:pt x="44" y="102"/>
                    </a:lnTo>
                    <a:lnTo>
                      <a:pt x="50" y="107"/>
                    </a:lnTo>
                    <a:lnTo>
                      <a:pt x="55" y="111"/>
                    </a:lnTo>
                    <a:lnTo>
                      <a:pt x="61" y="116"/>
                    </a:lnTo>
                    <a:lnTo>
                      <a:pt x="66" y="120"/>
                    </a:lnTo>
                    <a:lnTo>
                      <a:pt x="73" y="123"/>
                    </a:lnTo>
                    <a:lnTo>
                      <a:pt x="79" y="127"/>
                    </a:lnTo>
                    <a:lnTo>
                      <a:pt x="85" y="130"/>
                    </a:lnTo>
                    <a:lnTo>
                      <a:pt x="92" y="133"/>
                    </a:lnTo>
                    <a:lnTo>
                      <a:pt x="99" y="135"/>
                    </a:lnTo>
                    <a:lnTo>
                      <a:pt x="107" y="138"/>
                    </a:lnTo>
                    <a:lnTo>
                      <a:pt x="113" y="140"/>
                    </a:lnTo>
                    <a:lnTo>
                      <a:pt x="121" y="141"/>
                    </a:lnTo>
                    <a:lnTo>
                      <a:pt x="128" y="142"/>
                    </a:lnTo>
                    <a:lnTo>
                      <a:pt x="136" y="143"/>
                    </a:lnTo>
                    <a:lnTo>
                      <a:pt x="144" y="144"/>
                    </a:lnTo>
                    <a:lnTo>
                      <a:pt x="151" y="144"/>
                    </a:lnTo>
                    <a:lnTo>
                      <a:pt x="238" y="144"/>
                    </a:lnTo>
                    <a:lnTo>
                      <a:pt x="250" y="144"/>
                    </a:lnTo>
                    <a:lnTo>
                      <a:pt x="262" y="142"/>
                    </a:lnTo>
                    <a:lnTo>
                      <a:pt x="273" y="140"/>
                    </a:lnTo>
                    <a:lnTo>
                      <a:pt x="284" y="137"/>
                    </a:lnTo>
                    <a:lnTo>
                      <a:pt x="295" y="133"/>
                    </a:lnTo>
                    <a:lnTo>
                      <a:pt x="305" y="129"/>
                    </a:lnTo>
                    <a:lnTo>
                      <a:pt x="315" y="124"/>
                    </a:lnTo>
                    <a:lnTo>
                      <a:pt x="325" y="118"/>
                    </a:lnTo>
                    <a:lnTo>
                      <a:pt x="334" y="111"/>
                    </a:lnTo>
                    <a:lnTo>
                      <a:pt x="343" y="104"/>
                    </a:lnTo>
                    <a:lnTo>
                      <a:pt x="351" y="96"/>
                    </a:lnTo>
                    <a:lnTo>
                      <a:pt x="358" y="87"/>
                    </a:lnTo>
                    <a:lnTo>
                      <a:pt x="364" y="78"/>
                    </a:lnTo>
                    <a:lnTo>
                      <a:pt x="370" y="69"/>
                    </a:lnTo>
                    <a:lnTo>
                      <a:pt x="376" y="59"/>
                    </a:lnTo>
                    <a:lnTo>
                      <a:pt x="380" y="48"/>
                    </a:lnTo>
                    <a:lnTo>
                      <a:pt x="423" y="48"/>
                    </a:lnTo>
                    <a:lnTo>
                      <a:pt x="346" y="0"/>
                    </a:lnTo>
                    <a:lnTo>
                      <a:pt x="251" y="48"/>
                    </a:lnTo>
                    <a:lnTo>
                      <a:pt x="294" y="48"/>
                    </a:lnTo>
                    <a:lnTo>
                      <a:pt x="290" y="56"/>
                    </a:lnTo>
                    <a:lnTo>
                      <a:pt x="287" y="64"/>
                    </a:lnTo>
                    <a:lnTo>
                      <a:pt x="283" y="71"/>
                    </a:lnTo>
                    <a:lnTo>
                      <a:pt x="278" y="78"/>
                    </a:lnTo>
                    <a:lnTo>
                      <a:pt x="273" y="85"/>
                    </a:lnTo>
                    <a:lnTo>
                      <a:pt x="268" y="92"/>
                    </a:lnTo>
                    <a:lnTo>
                      <a:pt x="262" y="98"/>
                    </a:lnTo>
                    <a:lnTo>
                      <a:pt x="256" y="104"/>
                    </a:lnTo>
                    <a:lnTo>
                      <a:pt x="249" y="110"/>
                    </a:lnTo>
                    <a:lnTo>
                      <a:pt x="242" y="115"/>
                    </a:lnTo>
                    <a:lnTo>
                      <a:pt x="235" y="120"/>
                    </a:lnTo>
                    <a:lnTo>
                      <a:pt x="227" y="125"/>
                    </a:lnTo>
                    <a:lnTo>
                      <a:pt x="219" y="129"/>
                    </a:lnTo>
                    <a:lnTo>
                      <a:pt x="211" y="132"/>
                    </a:lnTo>
                    <a:lnTo>
                      <a:pt x="203" y="135"/>
                    </a:lnTo>
                    <a:lnTo>
                      <a:pt x="194" y="138"/>
                    </a:lnTo>
                    <a:lnTo>
                      <a:pt x="182" y="134"/>
                    </a:lnTo>
                    <a:lnTo>
                      <a:pt x="171" y="129"/>
                    </a:lnTo>
                    <a:lnTo>
                      <a:pt x="160" y="124"/>
                    </a:lnTo>
                    <a:lnTo>
                      <a:pt x="151" y="118"/>
                    </a:lnTo>
                    <a:lnTo>
                      <a:pt x="141" y="111"/>
                    </a:lnTo>
                    <a:lnTo>
                      <a:pt x="132" y="103"/>
                    </a:lnTo>
                    <a:lnTo>
                      <a:pt x="123" y="95"/>
                    </a:lnTo>
                    <a:lnTo>
                      <a:pt x="116" y="86"/>
                    </a:lnTo>
                    <a:lnTo>
                      <a:pt x="109" y="77"/>
                    </a:lnTo>
                    <a:lnTo>
                      <a:pt x="104" y="67"/>
                    </a:lnTo>
                    <a:lnTo>
                      <a:pt x="98" y="57"/>
                    </a:lnTo>
                    <a:lnTo>
                      <a:pt x="94" y="46"/>
                    </a:lnTo>
                    <a:lnTo>
                      <a:pt x="91" y="35"/>
                    </a:lnTo>
                    <a:lnTo>
                      <a:pt x="88" y="24"/>
                    </a:lnTo>
                    <a:lnTo>
                      <a:pt x="87" y="12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b6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12"/>
              <p:cNvSpPr/>
              <p:nvPr/>
            </p:nvSpPr>
            <p:spPr>
              <a:xfrm>
                <a:off x="5436000" y="4757400"/>
                <a:ext cx="758160" cy="3769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3811320" y="5298120"/>
                <a:ext cx="221796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14"/>
              <p:cNvSpPr/>
              <p:nvPr/>
            </p:nvSpPr>
            <p:spPr>
              <a:xfrm flipV="1">
                <a:off x="5105880" y="4990320"/>
                <a:ext cx="304560" cy="158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"/>
            <p:cNvGrpSpPr/>
            <p:nvPr/>
          </p:nvGrpSpPr>
          <p:grpSpPr>
            <a:xfrm>
              <a:off x="6162840" y="3933720"/>
              <a:ext cx="2295360" cy="2521080"/>
              <a:chOff x="6162840" y="3933720"/>
              <a:chExt cx="2295360" cy="2521080"/>
            </a:xfrm>
          </p:grpSpPr>
          <p:pic>
            <p:nvPicPr>
              <p:cNvPr id="194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040" y="3933720"/>
                <a:ext cx="1512000" cy="250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17"/>
              <p:cNvSpPr/>
              <p:nvPr/>
            </p:nvSpPr>
            <p:spPr>
              <a:xfrm>
                <a:off x="6162840" y="6091560"/>
                <a:ext cx="22953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8"/>
          <p:cNvGrpSpPr/>
          <p:nvPr/>
        </p:nvGrpSpPr>
        <p:grpSpPr>
          <a:xfrm>
            <a:off x="5219640" y="1197000"/>
            <a:ext cx="3672000" cy="2306160"/>
            <a:chOff x="5219640" y="1197000"/>
            <a:chExt cx="3672000" cy="2306160"/>
          </a:xfrm>
        </p:grpSpPr>
        <p:grpSp>
          <p:nvGrpSpPr>
            <p:cNvPr id="197" name="Group 19"/>
            <p:cNvGrpSpPr/>
            <p:nvPr/>
          </p:nvGrpSpPr>
          <p:grpSpPr>
            <a:xfrm>
              <a:off x="6826320" y="1197000"/>
              <a:ext cx="2065320" cy="2306160"/>
              <a:chOff x="6826320" y="1197000"/>
              <a:chExt cx="2065320" cy="2306160"/>
            </a:xfrm>
          </p:grpSpPr>
          <p:pic>
            <p:nvPicPr>
              <p:cNvPr id="198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240" y="1197000"/>
                <a:ext cx="1762200" cy="23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21"/>
              <p:cNvSpPr/>
              <p:nvPr/>
            </p:nvSpPr>
            <p:spPr>
              <a:xfrm>
                <a:off x="6826320" y="3139920"/>
                <a:ext cx="20653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2"/>
            <p:cNvGrpSpPr/>
            <p:nvPr/>
          </p:nvGrpSpPr>
          <p:grpSpPr>
            <a:xfrm>
              <a:off x="5219640" y="2060640"/>
              <a:ext cx="1540080" cy="514800"/>
              <a:chOff x="5219640" y="2060640"/>
              <a:chExt cx="1540080" cy="514800"/>
            </a:xfrm>
          </p:grpSpPr>
          <p:sp>
            <p:nvSpPr>
              <p:cNvPr id="201" name="Line 23"/>
              <p:cNvSpPr/>
              <p:nvPr/>
            </p:nvSpPr>
            <p:spPr>
              <a:xfrm>
                <a:off x="5379840" y="2060640"/>
                <a:ext cx="11419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5219640" y="2212200"/>
                <a:ext cx="154008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25"/>
          <p:cNvGrpSpPr/>
          <p:nvPr/>
        </p:nvGrpSpPr>
        <p:grpSpPr>
          <a:xfrm>
            <a:off x="289080" y="1197000"/>
            <a:ext cx="5217480" cy="2461680"/>
            <a:chOff x="289080" y="1197000"/>
            <a:chExt cx="5217480" cy="2461680"/>
          </a:xfrm>
        </p:grpSpPr>
        <p:pic>
          <p:nvPicPr>
            <p:cNvPr id="204" name="Picture 26" descr=""/>
            <p:cNvPicPr/>
            <p:nvPr/>
          </p:nvPicPr>
          <p:blipFill>
            <a:blip r:embed="rId4"/>
            <a:stretch/>
          </p:blipFill>
          <p:spPr>
            <a:xfrm>
              <a:off x="383760" y="1197000"/>
              <a:ext cx="475128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27"/>
            <p:cNvSpPr/>
            <p:nvPr/>
          </p:nvSpPr>
          <p:spPr>
            <a:xfrm>
              <a:off x="289080" y="3295440"/>
              <a:ext cx="2217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2831040" y="3282840"/>
              <a:ext cx="26755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29"/>
            <p:cNvSpPr/>
            <p:nvPr/>
          </p:nvSpPr>
          <p:spPr>
            <a:xfrm>
              <a:off x="1678680" y="2059920"/>
              <a:ext cx="194256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dc425c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0"/>
          <p:cNvGrpSpPr/>
          <p:nvPr/>
        </p:nvGrpSpPr>
        <p:grpSpPr>
          <a:xfrm>
            <a:off x="-490680" y="4005360"/>
            <a:ext cx="6284880" cy="1436760"/>
            <a:chOff x="-490680" y="4005360"/>
            <a:chExt cx="6284880" cy="1436760"/>
          </a:xfrm>
        </p:grpSpPr>
        <p:sp>
          <p:nvSpPr>
            <p:cNvPr id="209" name="Oval 31"/>
            <p:cNvSpPr/>
            <p:nvPr/>
          </p:nvSpPr>
          <p:spPr>
            <a:xfrm>
              <a:off x="1978920" y="4005360"/>
              <a:ext cx="672840" cy="28692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32"/>
            <p:cNvSpPr/>
            <p:nvPr/>
          </p:nvSpPr>
          <p:spPr>
            <a:xfrm>
              <a:off x="-490680" y="4005360"/>
              <a:ext cx="6284880" cy="1436760"/>
            </a:xfrm>
            <a:custGeom>
              <a:avLst/>
              <a:gdLst>
                <a:gd name="textAreaLeft" fmla="*/ 3142440 w 6284880"/>
                <a:gd name="textAreaRight" fmla="*/ 6285240 w 6284880"/>
                <a:gd name="textAreaTop" fmla="*/ 0 h 1436760"/>
                <a:gd name="textAreaBottom" fmla="*/ 718560 h 14367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Oval 3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NO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73080" y="2565360"/>
            <a:ext cx="1833120" cy="1980360"/>
            <a:chOff x="73080" y="2565360"/>
            <a:chExt cx="1833120" cy="1980360"/>
          </a:xfrm>
        </p:grpSpPr>
        <p:pic>
          <p:nvPicPr>
            <p:cNvPr id="215" name="Picture 3" descr=""/>
            <p:cNvPicPr/>
            <p:nvPr/>
          </p:nvPicPr>
          <p:blipFill>
            <a:blip r:embed="rId1"/>
            <a:srcRect l="0" t="0" r="64860" b="0"/>
            <a:stretch/>
          </p:blipFill>
          <p:spPr>
            <a:xfrm>
              <a:off x="73080" y="2565360"/>
              <a:ext cx="169092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4"/>
            <p:cNvSpPr/>
            <p:nvPr/>
          </p:nvSpPr>
          <p:spPr>
            <a:xfrm>
              <a:off x="107640" y="41468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2556000" y="1197000"/>
            <a:ext cx="1798560" cy="2054520"/>
            <a:chOff x="2556000" y="1197000"/>
            <a:chExt cx="1798560" cy="2054520"/>
          </a:xfrm>
        </p:grpSpPr>
        <p:pic>
          <p:nvPicPr>
            <p:cNvPr id="218" name="Picture 6" descr=""/>
            <p:cNvPicPr/>
            <p:nvPr/>
          </p:nvPicPr>
          <p:blipFill>
            <a:blip r:embed="rId2"/>
            <a:srcRect l="62883" t="0" r="0" b="0"/>
            <a:stretch/>
          </p:blipFill>
          <p:spPr>
            <a:xfrm>
              <a:off x="2556000" y="1197000"/>
              <a:ext cx="1785960" cy="19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7"/>
            <p:cNvSpPr/>
            <p:nvPr/>
          </p:nvSpPr>
          <p:spPr>
            <a:xfrm>
              <a:off x="2556000" y="28526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2698920" y="3789360"/>
            <a:ext cx="1871280" cy="2486520"/>
            <a:chOff x="2698920" y="3789360"/>
            <a:chExt cx="1871280" cy="2486520"/>
          </a:xfrm>
        </p:grpSpPr>
        <p:pic>
          <p:nvPicPr>
            <p:cNvPr id="221" name="Picture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79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0"/>
            <p:cNvSpPr/>
            <p:nvPr/>
          </p:nvSpPr>
          <p:spPr>
            <a:xfrm>
              <a:off x="2771280" y="5877000"/>
              <a:ext cx="1798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4500720" y="2997360"/>
            <a:ext cx="2301840" cy="1015920"/>
            <a:chOff x="4500720" y="2997360"/>
            <a:chExt cx="2301840" cy="1015920"/>
          </a:xfrm>
        </p:grpSpPr>
        <p:sp>
          <p:nvSpPr>
            <p:cNvPr id="224" name="Line 12"/>
            <p:cNvSpPr/>
            <p:nvPr/>
          </p:nvSpPr>
          <p:spPr>
            <a:xfrm>
              <a:off x="4500720" y="3453480"/>
              <a:ext cx="230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4571640" y="2997360"/>
              <a:ext cx="2014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500720" y="3597840"/>
              <a:ext cx="2230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15"/>
          <p:cNvGrpSpPr/>
          <p:nvPr/>
        </p:nvGrpSpPr>
        <p:grpSpPr>
          <a:xfrm>
            <a:off x="6804000" y="1484280"/>
            <a:ext cx="2158920" cy="5184000"/>
            <a:chOff x="6804000" y="1484280"/>
            <a:chExt cx="2158920" cy="5184000"/>
          </a:xfrm>
        </p:grpSpPr>
        <p:grpSp>
          <p:nvGrpSpPr>
            <p:cNvPr id="228" name="Group 16"/>
            <p:cNvGrpSpPr/>
            <p:nvPr/>
          </p:nvGrpSpPr>
          <p:grpSpPr>
            <a:xfrm>
              <a:off x="6804000" y="3949560"/>
              <a:ext cx="2158920" cy="2718720"/>
              <a:chOff x="6804000" y="3949560"/>
              <a:chExt cx="2158920" cy="2718720"/>
            </a:xfrm>
          </p:grpSpPr>
          <p:pic>
            <p:nvPicPr>
              <p:cNvPr id="229" name="Picture 17" descr=""/>
              <p:cNvPicPr/>
              <p:nvPr/>
            </p:nvPicPr>
            <p:blipFill>
              <a:blip r:embed="rId4"/>
              <a:srcRect l="72217" t="0" r="9717" b="16438"/>
              <a:stretch/>
            </p:blipFill>
            <p:spPr>
              <a:xfrm>
                <a:off x="6910200" y="3949560"/>
                <a:ext cx="1692360" cy="24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8"/>
              <p:cNvSpPr/>
              <p:nvPr/>
            </p:nvSpPr>
            <p:spPr>
              <a:xfrm>
                <a:off x="6804000" y="6330960"/>
                <a:ext cx="21589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9"/>
            <p:cNvGrpSpPr/>
            <p:nvPr/>
          </p:nvGrpSpPr>
          <p:grpSpPr>
            <a:xfrm>
              <a:off x="6805440" y="1484280"/>
              <a:ext cx="2086200" cy="1850400"/>
              <a:chOff x="6805440" y="1484280"/>
              <a:chExt cx="2086200" cy="1850400"/>
            </a:xfrm>
          </p:grpSpPr>
          <p:sp>
            <p:nvSpPr>
              <p:cNvPr id="232" name="Text Box 20"/>
              <p:cNvSpPr/>
              <p:nvPr/>
            </p:nvSpPr>
            <p:spPr>
              <a:xfrm>
                <a:off x="6805440" y="2997360"/>
                <a:ext cx="20862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3" name="Picture 21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076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4" name="Group 22"/>
          <p:cNvGrpSpPr/>
          <p:nvPr/>
        </p:nvGrpSpPr>
        <p:grpSpPr>
          <a:xfrm>
            <a:off x="1293840" y="1698840"/>
            <a:ext cx="1404720" cy="1656360"/>
            <a:chOff x="1293840" y="1698840"/>
            <a:chExt cx="1404720" cy="1656360"/>
          </a:xfrm>
        </p:grpSpPr>
        <p:sp>
          <p:nvSpPr>
            <p:cNvPr id="235" name="Text Box 23"/>
            <p:cNvSpPr/>
            <p:nvPr/>
          </p:nvSpPr>
          <p:spPr>
            <a:xfrm rot="19140000">
              <a:off x="1253880" y="2106720"/>
              <a:ext cx="139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4"/>
            <p:cNvSpPr/>
            <p:nvPr/>
          </p:nvSpPr>
          <p:spPr>
            <a:xfrm flipV="1">
              <a:off x="1653480" y="2031480"/>
              <a:ext cx="1045080" cy="13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25"/>
          <p:cNvGrpSpPr/>
          <p:nvPr/>
        </p:nvGrpSpPr>
        <p:grpSpPr>
          <a:xfrm>
            <a:off x="1757520" y="3221280"/>
            <a:ext cx="1475640" cy="1501200"/>
            <a:chOff x="1757520" y="3221280"/>
            <a:chExt cx="1475640" cy="1501200"/>
          </a:xfrm>
        </p:grpSpPr>
        <p:sp>
          <p:nvSpPr>
            <p:cNvPr id="238" name="Line 26"/>
            <p:cNvSpPr/>
            <p:nvPr/>
          </p:nvSpPr>
          <p:spPr>
            <a:xfrm>
              <a:off x="1757520" y="3597120"/>
              <a:ext cx="1198080" cy="11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 rot="3120000">
              <a:off x="1938240" y="3699360"/>
              <a:ext cx="1407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Oval 28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9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30"/>
          <p:cNvGrpSpPr/>
          <p:nvPr/>
        </p:nvGrpSpPr>
        <p:grpSpPr>
          <a:xfrm>
            <a:off x="2700360" y="1125360"/>
            <a:ext cx="2244240" cy="3305880"/>
            <a:chOff x="2700360" y="1125360"/>
            <a:chExt cx="2244240" cy="3305880"/>
          </a:xfrm>
        </p:grpSpPr>
        <p:sp>
          <p:nvSpPr>
            <p:cNvPr id="243" name="Rectangle 31"/>
            <p:cNvSpPr/>
            <p:nvPr/>
          </p:nvSpPr>
          <p:spPr>
            <a:xfrm>
              <a:off x="2700360" y="1125360"/>
              <a:ext cx="1504440" cy="66564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32"/>
            <p:cNvSpPr/>
            <p:nvPr/>
          </p:nvSpPr>
          <p:spPr>
            <a:xfrm rot="480000">
              <a:off x="3166200" y="1441800"/>
              <a:ext cx="1584720" cy="2893320"/>
            </a:xfrm>
            <a:custGeom>
              <a:avLst/>
              <a:gdLst>
                <a:gd name="textAreaLeft" fmla="*/ 792360 w 1584720"/>
                <a:gd name="textAreaRight" fmla="*/ 1585080 w 1584720"/>
                <a:gd name="textAreaTop" fmla="*/ 0 h 2893320"/>
                <a:gd name="textAreaBottom" fmla="*/ 2885400 h 2893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Rectangle 33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rcRect l="0" t="0" r="77625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5"/>
          <p:cNvGrpSpPr/>
          <p:nvPr/>
        </p:nvGrpSpPr>
        <p:grpSpPr>
          <a:xfrm>
            <a:off x="3780000" y="1330200"/>
            <a:ext cx="5327280" cy="2320920"/>
            <a:chOff x="3780000" y="1330200"/>
            <a:chExt cx="5327280" cy="2320920"/>
          </a:xfrm>
        </p:grpSpPr>
        <p:grpSp>
          <p:nvGrpSpPr>
            <p:cNvPr id="251" name="Group 6"/>
            <p:cNvGrpSpPr/>
            <p:nvPr/>
          </p:nvGrpSpPr>
          <p:grpSpPr>
            <a:xfrm>
              <a:off x="3780000" y="2095560"/>
              <a:ext cx="1726920" cy="469440"/>
              <a:chOff x="3780000" y="2095560"/>
              <a:chExt cx="1726920" cy="469440"/>
            </a:xfrm>
          </p:grpSpPr>
          <p:sp>
            <p:nvSpPr>
              <p:cNvPr id="252" name="Line 7"/>
              <p:cNvSpPr/>
              <p:nvPr/>
            </p:nvSpPr>
            <p:spPr>
              <a:xfrm>
                <a:off x="4210920" y="2563560"/>
                <a:ext cx="93564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 Box 8"/>
              <p:cNvSpPr/>
              <p:nvPr/>
            </p:nvSpPr>
            <p:spPr>
              <a:xfrm>
                <a:off x="3780000" y="2095560"/>
                <a:ext cx="172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9"/>
            <p:cNvGrpSpPr/>
            <p:nvPr/>
          </p:nvGrpSpPr>
          <p:grpSpPr>
            <a:xfrm>
              <a:off x="5437080" y="1330200"/>
              <a:ext cx="3670200" cy="2320920"/>
              <a:chOff x="5437080" y="1330200"/>
              <a:chExt cx="3670200" cy="2320920"/>
            </a:xfrm>
          </p:grpSpPr>
          <p:pic>
            <p:nvPicPr>
              <p:cNvPr id="255" name="Picture 10" descr=""/>
              <p:cNvPicPr/>
              <p:nvPr/>
            </p:nvPicPr>
            <p:blipFill>
              <a:blip r:embed="rId3"/>
              <a:srcRect l="57564" t="11159" r="1097" b="17894"/>
              <a:stretch/>
            </p:blipFill>
            <p:spPr>
              <a:xfrm>
                <a:off x="5471640" y="1330200"/>
                <a:ext cx="3564360" cy="19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 Box 11"/>
              <p:cNvSpPr/>
              <p:nvPr/>
            </p:nvSpPr>
            <p:spPr>
              <a:xfrm>
                <a:off x="7379280" y="328284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Text Box 12"/>
              <p:cNvSpPr/>
              <p:nvPr/>
            </p:nvSpPr>
            <p:spPr>
              <a:xfrm>
                <a:off x="5437080" y="3282840"/>
                <a:ext cx="16552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Rectangle 13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ACCIONES DE LA FASE NO OXIDATIVA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898560" y="907920"/>
            <a:ext cx="2881440" cy="1439640"/>
            <a:chOff x="898560" y="907920"/>
            <a:chExt cx="2881440" cy="1439640"/>
          </a:xfrm>
        </p:grpSpPr>
        <p:sp>
          <p:nvSpPr>
            <p:cNvPr id="260" name="Rectangle 15"/>
            <p:cNvSpPr/>
            <p:nvPr/>
          </p:nvSpPr>
          <p:spPr>
            <a:xfrm>
              <a:off x="2339280" y="907920"/>
              <a:ext cx="1367640" cy="108000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6"/>
            <p:cNvSpPr/>
            <p:nvPr/>
          </p:nvSpPr>
          <p:spPr>
            <a:xfrm flipH="1">
              <a:off x="898560" y="1196640"/>
              <a:ext cx="2881440" cy="1150920"/>
            </a:xfrm>
            <a:custGeom>
              <a:avLst/>
              <a:gdLst>
                <a:gd name="textAreaLeft" fmla="*/ 1441080 w 2881440"/>
                <a:gd name="textAreaRight" fmla="*/ 2882160 w 2881440"/>
                <a:gd name="textAreaTop" fmla="*/ 0 h 1150920"/>
                <a:gd name="textAreaBottom" fmla="*/ 575640 h 1150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7"/>
          <p:cNvGrpSpPr/>
          <p:nvPr/>
        </p:nvGrpSpPr>
        <p:grpSpPr>
          <a:xfrm>
            <a:off x="0" y="3429000"/>
            <a:ext cx="9142200" cy="3103560"/>
            <a:chOff x="0" y="3429000"/>
            <a:chExt cx="9142200" cy="3103560"/>
          </a:xfrm>
        </p:grpSpPr>
        <p:grpSp>
          <p:nvGrpSpPr>
            <p:cNvPr id="263" name="Group 18"/>
            <p:cNvGrpSpPr/>
            <p:nvPr/>
          </p:nvGrpSpPr>
          <p:grpSpPr>
            <a:xfrm>
              <a:off x="0" y="3429000"/>
              <a:ext cx="3881160" cy="2959200"/>
              <a:chOff x="0" y="3429000"/>
              <a:chExt cx="3881160" cy="2959200"/>
            </a:xfrm>
          </p:grpSpPr>
          <p:pic>
            <p:nvPicPr>
              <p:cNvPr id="264" name="Picture 19" descr=""/>
              <p:cNvPicPr/>
              <p:nvPr/>
            </p:nvPicPr>
            <p:blipFill>
              <a:blip r:embed="rId4"/>
              <a:srcRect l="57564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Group 20"/>
              <p:cNvGrpSpPr/>
              <p:nvPr/>
            </p:nvGrpSpPr>
            <p:grpSpPr>
              <a:xfrm>
                <a:off x="0" y="4078440"/>
                <a:ext cx="3881160" cy="2309760"/>
                <a:chOff x="0" y="4078440"/>
                <a:chExt cx="3881160" cy="2309760"/>
              </a:xfrm>
            </p:grpSpPr>
            <p:sp>
              <p:nvSpPr>
                <p:cNvPr id="266" name="Text Box 21"/>
                <p:cNvSpPr/>
                <p:nvPr/>
              </p:nvSpPr>
              <p:spPr>
                <a:xfrm>
                  <a:off x="0" y="6019920"/>
                  <a:ext cx="16549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67" name="Picture 22" descr=""/>
                <p:cNvPicPr/>
                <p:nvPr/>
              </p:nvPicPr>
              <p:blipFill>
                <a:blip r:embed="rId5"/>
                <a:srcRect l="66663" t="0" r="0" b="0"/>
                <a:stretch/>
              </p:blipFill>
              <p:spPr>
                <a:xfrm>
                  <a:off x="1978560" y="4078440"/>
                  <a:ext cx="1902600" cy="230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Text Box 23"/>
                <p:cNvSpPr/>
                <p:nvPr/>
              </p:nvSpPr>
              <p:spPr>
                <a:xfrm>
                  <a:off x="1978560" y="6019920"/>
                  <a:ext cx="1799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Text Box 24"/>
                <p:cNvSpPr/>
                <p:nvPr/>
              </p:nvSpPr>
              <p:spPr>
                <a:xfrm>
                  <a:off x="1475640" y="4868280"/>
                  <a:ext cx="431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AR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5"/>
            <p:cNvGrpSpPr/>
            <p:nvPr/>
          </p:nvGrpSpPr>
          <p:grpSpPr>
            <a:xfrm>
              <a:off x="4861080" y="3968640"/>
              <a:ext cx="4281120" cy="2563920"/>
              <a:chOff x="4861080" y="3968640"/>
              <a:chExt cx="4281120" cy="2563920"/>
            </a:xfrm>
          </p:grpSpPr>
          <p:pic>
            <p:nvPicPr>
              <p:cNvPr id="271" name="Picture 26" descr=""/>
              <p:cNvPicPr/>
              <p:nvPr/>
            </p:nvPicPr>
            <p:blipFill>
              <a:blip r:embed="rId6"/>
              <a:srcRect l="78464" t="0" r="0" b="19898"/>
              <a:stretch/>
            </p:blipFill>
            <p:spPr>
              <a:xfrm>
                <a:off x="7094880" y="3968640"/>
                <a:ext cx="2047320" cy="23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27"/>
              <p:cNvSpPr/>
              <p:nvPr/>
            </p:nvSpPr>
            <p:spPr>
              <a:xfrm>
                <a:off x="4861080" y="5940720"/>
                <a:ext cx="244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3" name="Picture 28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3640" y="4436640"/>
                <a:ext cx="1497960" cy="15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29"/>
              <p:cNvSpPr/>
              <p:nvPr/>
            </p:nvSpPr>
            <p:spPr>
              <a:xfrm>
                <a:off x="7234920" y="616428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Text Box 30"/>
              <p:cNvSpPr/>
              <p:nvPr/>
            </p:nvSpPr>
            <p:spPr>
              <a:xfrm>
                <a:off x="6732000" y="497592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3492360" y="4797360"/>
              <a:ext cx="2014560" cy="1008720"/>
              <a:chOff x="3492360" y="4797360"/>
              <a:chExt cx="2014560" cy="1008720"/>
            </a:xfrm>
          </p:grpSpPr>
          <p:sp>
            <p:nvSpPr>
              <p:cNvPr id="277" name="Line 32"/>
              <p:cNvSpPr/>
              <p:nvPr/>
            </p:nvSpPr>
            <p:spPr>
              <a:xfrm>
                <a:off x="3852360" y="5228640"/>
                <a:ext cx="129564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3"/>
              <p:cNvSpPr/>
              <p:nvPr/>
            </p:nvSpPr>
            <p:spPr>
              <a:xfrm>
                <a:off x="3492360" y="4797360"/>
                <a:ext cx="2014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35"/>
          <p:cNvSpPr/>
          <p:nvPr/>
        </p:nvSpPr>
        <p:spPr>
          <a:xfrm>
            <a:off x="2009880" y="3857760"/>
            <a:ext cx="1296720" cy="93636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8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 flipH="1">
            <a:off x="785880" y="4000680"/>
            <a:ext cx="2571840" cy="1152360"/>
          </a:xfrm>
          <a:custGeom>
            <a:avLst/>
            <a:gdLst>
              <a:gd name="textAreaLeft" fmla="*/ 1286280 w 2571840"/>
              <a:gd name="textAreaRight" fmla="*/ 2572560 w 2571840"/>
              <a:gd name="textAreaTop" fmla="*/ 0 h 1152360"/>
              <a:gd name="textAreaBottom" fmla="*/ 576000 h 1152360"/>
            </a:gdLst>
            <a:ahLst/>
            <a:rect l="textAreaLeft" t="textAreaTop" r="textAreaRight" b="textAreaBottom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34 fase oxid de VP"/>
          <p:cNvPicPr/>
          <p:nvPr/>
        </p:nvPicPr>
        <p:blipFill>
          <a:blip r:embed="rId1"/>
          <a:srcRect l="0" t="37175" r="0" b="0"/>
          <a:stretch/>
        </p:blipFill>
        <p:spPr>
          <a:xfrm>
            <a:off x="222120" y="1557360"/>
            <a:ext cx="8699760" cy="1946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9"/>
          <p:cNvGrpSpPr/>
          <p:nvPr/>
        </p:nvGrpSpPr>
        <p:grpSpPr>
          <a:xfrm>
            <a:off x="1403280" y="2421000"/>
            <a:ext cx="1081080" cy="1728720"/>
            <a:chOff x="1403280" y="2421000"/>
            <a:chExt cx="1081080" cy="1728720"/>
          </a:xfrm>
        </p:grpSpPr>
        <p:sp>
          <p:nvSpPr>
            <p:cNvPr id="285" name="Rectangle 6"/>
            <p:cNvSpPr/>
            <p:nvPr/>
          </p:nvSpPr>
          <p:spPr>
            <a:xfrm>
              <a:off x="1403280" y="2421000"/>
              <a:ext cx="1081080" cy="503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1908000" y="2924280"/>
              <a:ext cx="0" cy="1225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 Box 8"/>
          <p:cNvSpPr/>
          <p:nvPr/>
        </p:nvSpPr>
        <p:spPr>
          <a:xfrm>
            <a:off x="324000" y="4241880"/>
            <a:ext cx="398124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Enzima limitante de la velocidad o enzima reguladora de la Vía de las Pent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7"/>
          <p:cNvGrpSpPr/>
          <p:nvPr/>
        </p:nvGrpSpPr>
        <p:grpSpPr>
          <a:xfrm>
            <a:off x="4357800" y="3789360"/>
            <a:ext cx="4522680" cy="847440"/>
            <a:chOff x="4357800" y="3789360"/>
            <a:chExt cx="4522680" cy="847440"/>
          </a:xfrm>
        </p:grpSpPr>
        <p:sp>
          <p:nvSpPr>
            <p:cNvPr id="289" name="Line 10"/>
            <p:cNvSpPr/>
            <p:nvPr/>
          </p:nvSpPr>
          <p:spPr>
            <a:xfrm flipV="1">
              <a:off x="4357800" y="4005000"/>
              <a:ext cx="645840" cy="63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1"/>
            <p:cNvSpPr/>
            <p:nvPr/>
          </p:nvSpPr>
          <p:spPr>
            <a:xfrm>
              <a:off x="4939920" y="3789360"/>
              <a:ext cx="39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alostéricamente por el NADP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19 Grupo"/>
          <p:cNvGrpSpPr/>
          <p:nvPr/>
        </p:nvGrpSpPr>
        <p:grpSpPr>
          <a:xfrm>
            <a:off x="4384800" y="4280040"/>
            <a:ext cx="2874960" cy="379440"/>
            <a:chOff x="4384800" y="4280040"/>
            <a:chExt cx="2874960" cy="379440"/>
          </a:xfrm>
        </p:grpSpPr>
        <p:sp>
          <p:nvSpPr>
            <p:cNvPr id="292" name="Line 15"/>
            <p:cNvSpPr/>
            <p:nvPr/>
          </p:nvSpPr>
          <p:spPr>
            <a:xfrm flipV="1">
              <a:off x="4384800" y="4443480"/>
              <a:ext cx="792000" cy="216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5152680" y="428004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009900"/>
                  </a:solidFill>
                  <a:latin typeface="Arial"/>
                </a:rPr>
                <a:t>Activada por NADP</a:t>
              </a:r>
              <a:r>
                <a:rPr b="1" lang="es-ES" sz="1600" spc="-1" strike="noStrike" baseline="30000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18 Grupo"/>
          <p:cNvGrpSpPr/>
          <p:nvPr/>
        </p:nvGrpSpPr>
        <p:grpSpPr>
          <a:xfrm>
            <a:off x="4286160" y="4800600"/>
            <a:ext cx="4348800" cy="337320"/>
            <a:chOff x="4286160" y="4800600"/>
            <a:chExt cx="4348800" cy="337320"/>
          </a:xfrm>
        </p:grpSpPr>
        <p:sp>
          <p:nvSpPr>
            <p:cNvPr id="295" name="Text Box 13"/>
            <p:cNvSpPr/>
            <p:nvPr/>
          </p:nvSpPr>
          <p:spPr>
            <a:xfrm>
              <a:off x="5179320" y="480060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por la luz en cloropla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4286160" y="4851360"/>
              <a:ext cx="863640" cy="14436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Text Box 20"/>
          <p:cNvSpPr/>
          <p:nvPr/>
        </p:nvSpPr>
        <p:spPr>
          <a:xfrm>
            <a:off x="762840" y="650880"/>
            <a:ext cx="78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Regulación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99400" cy="3098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0"/>
          <p:cNvSpPr/>
          <p:nvPr/>
        </p:nvSpPr>
        <p:spPr>
          <a:xfrm>
            <a:off x="503280" y="404640"/>
            <a:ext cx="81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Utilidades metabólicas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CuadroTexto 4"/>
          <p:cNvSpPr/>
          <p:nvPr/>
        </p:nvSpPr>
        <p:spPr>
          <a:xfrm>
            <a:off x="2873520" y="1700280"/>
            <a:ext cx="3456000" cy="7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</a:rPr>
              <a:t>Capacidad reductora para la biosíntesis de, por ej., ácidos grasos, colesterol, hormonas esteroideas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1" name="Conector recto de flecha 6"/>
          <p:cNvCxnSpPr/>
          <p:nvPr/>
        </p:nvCxnSpPr>
        <p:spPr>
          <a:xfrm flipV="1">
            <a:off x="2484000" y="2439720"/>
            <a:ext cx="864360" cy="413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2" name="Conector recto de flecha 7"/>
          <p:cNvCxnSpPr/>
          <p:nvPr/>
        </p:nvCxnSpPr>
        <p:spPr>
          <a:xfrm flipH="1" flipV="1">
            <a:off x="6084000" y="2466360"/>
            <a:ext cx="791640" cy="386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3" name="Rectángulo redondeado 11"/>
          <p:cNvSpPr/>
          <p:nvPr/>
        </p:nvSpPr>
        <p:spPr>
          <a:xfrm>
            <a:off x="1908000" y="2852640"/>
            <a:ext cx="57636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ángulo redondeado 12"/>
          <p:cNvSpPr/>
          <p:nvPr/>
        </p:nvSpPr>
        <p:spPr>
          <a:xfrm>
            <a:off x="6875640" y="2852640"/>
            <a:ext cx="57456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o 2"/>
          <p:cNvGrpSpPr/>
          <p:nvPr/>
        </p:nvGrpSpPr>
        <p:grpSpPr>
          <a:xfrm>
            <a:off x="395280" y="260280"/>
            <a:ext cx="8353440" cy="6432480"/>
            <a:chOff x="395280" y="260280"/>
            <a:chExt cx="8353440" cy="6432480"/>
          </a:xfrm>
        </p:grpSpPr>
        <p:pic>
          <p:nvPicPr>
            <p:cNvPr id="306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835344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ángulo 1"/>
            <p:cNvSpPr/>
            <p:nvPr/>
          </p:nvSpPr>
          <p:spPr>
            <a:xfrm>
              <a:off x="6076080" y="3328920"/>
              <a:ext cx="2305080" cy="285480"/>
            </a:xfrm>
            <a:prstGeom prst="rect">
              <a:avLst/>
            </a:prstGeom>
            <a:solidFill>
              <a:srgbClr val="dfb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ángulo redondeado 1"/>
          <p:cNvSpPr/>
          <p:nvPr/>
        </p:nvSpPr>
        <p:spPr>
          <a:xfrm>
            <a:off x="5148360" y="1700280"/>
            <a:ext cx="863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ángulo redondeado 5"/>
          <p:cNvSpPr/>
          <p:nvPr/>
        </p:nvSpPr>
        <p:spPr>
          <a:xfrm>
            <a:off x="6372360" y="1736640"/>
            <a:ext cx="1512720" cy="468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ángulo redondeado 6"/>
          <p:cNvSpPr/>
          <p:nvPr/>
        </p:nvSpPr>
        <p:spPr>
          <a:xfrm>
            <a:off x="4356000" y="3105000"/>
            <a:ext cx="1656000" cy="313236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3132360"/>
              <a:gd name="textAreaBottom" fmla="*/ 3051720 h 3132360"/>
            </a:gdLst>
            <a:ahLst/>
            <a:rect l="textAreaLeft" t="textAreaTop" r="textAreaRight" b="textAreaBottom"/>
            <a:pathLst>
              <a:path w="21600" h="40853">
                <a:moveTo>
                  <a:pt x="3600" y="0"/>
                </a:moveTo>
                <a:arcTo wR="3600" hR="3600" stAng="16200000" swAng="-5400000"/>
                <a:lnTo>
                  <a:pt x="0" y="37253"/>
                </a:lnTo>
                <a:arcTo wR="3600" hR="3600" stAng="10800000" swAng="-5400000"/>
                <a:lnTo>
                  <a:pt x="18000" y="40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ángulo redondeado 7"/>
          <p:cNvSpPr/>
          <p:nvPr/>
        </p:nvSpPr>
        <p:spPr>
          <a:xfrm>
            <a:off x="5859360" y="6372360"/>
            <a:ext cx="1016280" cy="3715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ángulo redondeado 8"/>
          <p:cNvSpPr/>
          <p:nvPr/>
        </p:nvSpPr>
        <p:spPr>
          <a:xfrm>
            <a:off x="1692360" y="4292640"/>
            <a:ext cx="1015920" cy="3715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052640"/>
            <a:ext cx="8291520" cy="499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ácidos grasos y estero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nucleótidos (ATP, GTP, CTP, UTP, TTP, NAD, FAD) y ácidos nucle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15"/>
          <p:cNvGrpSpPr/>
          <p:nvPr/>
        </p:nvGrpSpPr>
        <p:grpSpPr>
          <a:xfrm>
            <a:off x="684360" y="850320"/>
            <a:ext cx="7848360" cy="5737680"/>
            <a:chOff x="684360" y="850320"/>
            <a:chExt cx="7848360" cy="5737680"/>
          </a:xfrm>
        </p:grpSpPr>
        <p:pic>
          <p:nvPicPr>
            <p:cNvPr id="318" name="Imagen 1" descr=""/>
            <p:cNvPicPr/>
            <p:nvPr/>
          </p:nvPicPr>
          <p:blipFill>
            <a:blip r:embed="rId1"/>
            <a:srcRect l="0" t="0" r="38719" b="0"/>
            <a:stretch/>
          </p:blipFill>
          <p:spPr>
            <a:xfrm>
              <a:off x="684360" y="852840"/>
              <a:ext cx="7848360" cy="57351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319" name="CuadroTexto 14"/>
            <p:cNvSpPr/>
            <p:nvPr/>
          </p:nvSpPr>
          <p:spPr>
            <a:xfrm>
              <a:off x="3060360" y="850320"/>
              <a:ext cx="2880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Reacciones Oxidativas de la Vía de las Pentos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20" name="Conector recto de flecha 3"/>
          <p:cNvCxnSpPr/>
          <p:nvPr/>
        </p:nvCxnSpPr>
        <p:spPr>
          <a:xfrm>
            <a:off x="5724000" y="2636640"/>
            <a:ext cx="793080" cy="115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21" name="Rectángulo 4"/>
          <p:cNvSpPr/>
          <p:nvPr/>
        </p:nvSpPr>
        <p:spPr>
          <a:xfrm>
            <a:off x="5724360" y="2205000"/>
            <a:ext cx="71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2" name="Conector recto de flecha 5"/>
          <p:cNvCxnSpPr/>
          <p:nvPr/>
        </p:nvCxnSpPr>
        <p:spPr>
          <a:xfrm>
            <a:off x="6875280" y="2852280"/>
            <a:ext cx="1080" cy="7930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3" name="Conector recto de flecha 8"/>
          <p:cNvCxnSpPr/>
          <p:nvPr/>
        </p:nvCxnSpPr>
        <p:spPr>
          <a:xfrm>
            <a:off x="6875280" y="4149360"/>
            <a:ext cx="1080" cy="432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4" name="Conector recto de flecha 9"/>
          <p:cNvCxnSpPr/>
          <p:nvPr/>
        </p:nvCxnSpPr>
        <p:spPr>
          <a:xfrm>
            <a:off x="6875280" y="4508280"/>
            <a:ext cx="1080" cy="43380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5" name="Conector recto de flecha 10"/>
          <p:cNvCxnSpPr/>
          <p:nvPr/>
        </p:nvCxnSpPr>
        <p:spPr>
          <a:xfrm>
            <a:off x="6875280" y="4941720"/>
            <a:ext cx="1080" cy="43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6" name="Conector recto de flecha 11"/>
          <p:cNvCxnSpPr/>
          <p:nvPr/>
        </p:nvCxnSpPr>
        <p:spPr>
          <a:xfrm>
            <a:off x="6948000" y="5876640"/>
            <a:ext cx="1080" cy="432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27" name="Rectángulo 12"/>
          <p:cNvSpPr/>
          <p:nvPr/>
        </p:nvSpPr>
        <p:spPr>
          <a:xfrm>
            <a:off x="7093080" y="4141800"/>
            <a:ext cx="143964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V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rco 13"/>
          <p:cNvSpPr/>
          <p:nvPr/>
        </p:nvSpPr>
        <p:spPr>
          <a:xfrm>
            <a:off x="2050920" y="1413000"/>
            <a:ext cx="4753080" cy="2087280"/>
          </a:xfrm>
          <a:custGeom>
            <a:avLst/>
            <a:gdLst/>
            <a:ahLst/>
            <a:rect l="l" t="t" r="r" b="b"/>
            <a:pathLst>
              <a:path stroke="0" w="4752528" h="2088232">
                <a:moveTo>
                  <a:pt x="85660" y="766301"/>
                </a:moveTo>
                <a:cubicBezTo>
                  <a:pt x="369670" y="314200"/>
                  <a:pt x="1304900" y="785"/>
                  <a:pt x="2372296" y="1"/>
                </a:cubicBezTo>
                <a:cubicBezTo>
                  <a:pt x="3428317" y="-774"/>
                  <a:pt x="4358803" y="304764"/>
                  <a:pt x="4656291" y="749982"/>
                </a:cubicBezTo>
                <a:lnTo>
                  <a:pt x="2376264" y="1044116"/>
                </a:lnTo>
                <a:lnTo>
                  <a:pt x="85660" y="766301"/>
                </a:lnTo>
                <a:close/>
              </a:path>
              <a:path fill="none" w="4752528" h="2088232">
                <a:moveTo>
                  <a:pt x="85660" y="766301"/>
                </a:moveTo>
                <a:cubicBezTo>
                  <a:pt x="369670" y="314200"/>
                  <a:pt x="1304900" y="785"/>
                  <a:pt x="2372296" y="1"/>
                </a:cubicBezTo>
                <a:cubicBezTo>
                  <a:pt x="3428317" y="-774"/>
                  <a:pt x="4358803" y="304764"/>
                  <a:pt x="4656291" y="749982"/>
                </a:cubicBezTo>
              </a:path>
            </a:pathLst>
          </a:custGeom>
          <a:noFill/>
          <a:ln w="57240">
            <a:solidFill>
              <a:srgbClr val="7030a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3259080" y="425520"/>
            <a:ext cx="1285560" cy="482400"/>
            <a:chOff x="3259080" y="425520"/>
            <a:chExt cx="1285560" cy="482400"/>
          </a:xfrm>
        </p:grpSpPr>
        <p:sp>
          <p:nvSpPr>
            <p:cNvPr id="54" name="Text Box 4"/>
            <p:cNvSpPr/>
            <p:nvPr/>
          </p:nvSpPr>
          <p:spPr>
            <a:xfrm>
              <a:off x="3259080" y="425520"/>
              <a:ext cx="128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Glucosa yotr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hexo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Group 6"/>
          <p:cNvGrpSpPr/>
          <p:nvPr/>
        </p:nvGrpSpPr>
        <p:grpSpPr>
          <a:xfrm>
            <a:off x="4430880" y="417600"/>
            <a:ext cx="1073880" cy="1066680"/>
            <a:chOff x="4430880" y="417600"/>
            <a:chExt cx="1073880" cy="1066680"/>
          </a:xfrm>
        </p:grpSpPr>
        <p:sp>
          <p:nvSpPr>
            <p:cNvPr id="57" name="Text Box 7"/>
            <p:cNvSpPr/>
            <p:nvPr/>
          </p:nvSpPr>
          <p:spPr>
            <a:xfrm>
              <a:off x="443088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660033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4643280" y="692280"/>
              <a:ext cx="180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Line 8"/>
          <p:cNvSpPr/>
          <p:nvPr/>
        </p:nvSpPr>
        <p:spPr>
          <a:xfrm>
            <a:off x="2519280" y="981000"/>
            <a:ext cx="10447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upo 4"/>
          <p:cNvGrpSpPr/>
          <p:nvPr/>
        </p:nvGrpSpPr>
        <p:grpSpPr>
          <a:xfrm>
            <a:off x="4500720" y="981000"/>
            <a:ext cx="1800000" cy="540000"/>
            <a:chOff x="4500720" y="981000"/>
            <a:chExt cx="1800000" cy="540000"/>
          </a:xfrm>
        </p:grpSpPr>
        <p:sp>
          <p:nvSpPr>
            <p:cNvPr id="61" name="Line 8"/>
            <p:cNvSpPr/>
            <p:nvPr/>
          </p:nvSpPr>
          <p:spPr>
            <a:xfrm flipH="1">
              <a:off x="4500720" y="981000"/>
              <a:ext cx="1800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4500720" y="981000"/>
              <a:ext cx="0" cy="540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Line 8"/>
          <p:cNvSpPr/>
          <p:nvPr/>
        </p:nvSpPr>
        <p:spPr>
          <a:xfrm>
            <a:off x="2951280" y="2133720"/>
            <a:ext cx="54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627280" y="4581360"/>
            <a:ext cx="1008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3255840" y="4581000"/>
            <a:ext cx="532080" cy="279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H="1">
            <a:off x="5796000" y="4437000"/>
            <a:ext cx="417600" cy="4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324000" y="260280"/>
            <a:ext cx="8496000" cy="68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Comic Sans MS"/>
              </a:rPr>
              <a:t>Consideraciones finales sobre la Via de las Pentosas fosf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Puede considerarse otra forma de </a:t>
            </a:r>
            <a:r>
              <a:rPr b="1" lang="es-ES" sz="2000" spc="-1" strike="noStrike" u="sng">
                <a:solidFill>
                  <a:srgbClr val="3333ff"/>
                </a:solidFill>
                <a:uFillTx/>
                <a:latin typeface="Comic Sans MS"/>
              </a:rPr>
              <a:t>oxidar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 la glucosa-6-fosfato a CO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La ruta de las pentosas fosfato es generadora de intermediarios para otras vías metabólic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99cc00"/>
                </a:solidFill>
                <a:latin typeface="Comic Sans MS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ff3399"/>
                </a:solidFill>
                <a:latin typeface="Comic Sans MS"/>
              </a:rPr>
              <a:t>En mamíferos, 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9999"/>
                </a:solidFill>
                <a:latin typeface="Comic Sans MS"/>
              </a:rPr>
              <a:t>También en mamíferos, el NADPH actúa en procesos de desintoxicación dependientes de citocromo P450 en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En eritrocitos, NADPH, contribuye a mantener la concentración de Glutatión reducido y disminuir los niveles de metahemoglob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OGENO. Glu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isis. Enzimas. Regulación. Glucogeno-génesis. Enzimas. Glucogenina. Control hormonal.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carbohidratos. Gluconeogénesis: Ubicación celular, reacciones irreversibles, su regulación. Importancia metabólica. Regulación recíproca de glucólisis y gluconeogénesi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ógeno: Síntesis y degradación. Regulación enzimática. Metabolismo del almidón. Síntesis y degrad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49000" y="279360"/>
            <a:ext cx="81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63480" y="907920"/>
            <a:ext cx="801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una vía por la cual se puede sintetizar glucosa y glucógeno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 por ej. piruvato y oxalacet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335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ángulo 2"/>
          <p:cNvSpPr/>
          <p:nvPr/>
        </p:nvSpPr>
        <p:spPr>
          <a:xfrm>
            <a:off x="4029120" y="5589720"/>
            <a:ext cx="7588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"/>
          <p:cNvGrpSpPr/>
          <p:nvPr/>
        </p:nvGrpSpPr>
        <p:grpSpPr>
          <a:xfrm>
            <a:off x="4290840" y="290520"/>
            <a:ext cx="4456440" cy="6275520"/>
            <a:chOff x="4290840" y="290520"/>
            <a:chExt cx="4456440" cy="6275520"/>
          </a:xfrm>
        </p:grpSpPr>
        <p:pic>
          <p:nvPicPr>
            <p:cNvPr id="360" name="Picture 2" descr=""/>
            <p:cNvPicPr/>
            <p:nvPr/>
          </p:nvPicPr>
          <p:blipFill>
            <a:blip r:embed="rId1"/>
            <a:stretch/>
          </p:blipFill>
          <p:spPr>
            <a:xfrm>
              <a:off x="4290840" y="290520"/>
              <a:ext cx="4456440" cy="62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AutoShape 3"/>
            <p:cNvSpPr/>
            <p:nvPr/>
          </p:nvSpPr>
          <p:spPr>
            <a:xfrm flipH="1" flipV="1">
              <a:off x="7664760" y="4798080"/>
              <a:ext cx="440640" cy="431280"/>
            </a:xfrm>
            <a:custGeom>
              <a:avLst/>
              <a:gdLst>
                <a:gd name="textAreaLeft" fmla="*/ 220680 w 440640"/>
                <a:gd name="textAreaRight" fmla="*/ 441360 w 440640"/>
                <a:gd name="textAreaTop" fmla="*/ 360 h 431280"/>
                <a:gd name="textAreaBottom" fmla="*/ 216000 h 431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  <a:lnTo>
                    <a:pt x="10800" y="10800"/>
                  </a:lnTo>
                  <a:lnTo>
                    <a:pt x="10814" y="0"/>
                  </a:lnTo>
                  <a:close/>
                </a:path>
                <a:path fill="none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7702560" y="5227920"/>
              <a:ext cx="179280" cy="90000"/>
            </a:xfrm>
            <a:prstGeom prst="rect">
              <a:avLst/>
            </a:prstGeom>
            <a:solidFill>
              <a:srgbClr val="f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Text Box 5"/>
          <p:cNvSpPr/>
          <p:nvPr/>
        </p:nvSpPr>
        <p:spPr>
          <a:xfrm>
            <a:off x="356760" y="333360"/>
            <a:ext cx="36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16"/>
          <p:cNvGrpSpPr/>
          <p:nvPr/>
        </p:nvGrpSpPr>
        <p:grpSpPr>
          <a:xfrm>
            <a:off x="468360" y="2297160"/>
            <a:ext cx="3584880" cy="368280"/>
            <a:chOff x="468360" y="2297160"/>
            <a:chExt cx="3584880" cy="368280"/>
          </a:xfrm>
        </p:grpSpPr>
        <p:sp>
          <p:nvSpPr>
            <p:cNvPr id="375" name="Text Box 17"/>
            <p:cNvSpPr/>
            <p:nvPr/>
          </p:nvSpPr>
          <p:spPr>
            <a:xfrm>
              <a:off x="468360" y="229716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"/>
            <p:cNvSpPr/>
            <p:nvPr/>
          </p:nvSpPr>
          <p:spPr>
            <a:xfrm>
              <a:off x="2037600" y="2491200"/>
              <a:ext cx="717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19"/>
            <p:cNvSpPr/>
            <p:nvPr/>
          </p:nvSpPr>
          <p:spPr>
            <a:xfrm>
              <a:off x="28195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0"/>
          <p:cNvGrpSpPr/>
          <p:nvPr/>
        </p:nvGrpSpPr>
        <p:grpSpPr>
          <a:xfrm>
            <a:off x="520560" y="2708280"/>
            <a:ext cx="3403080" cy="388440"/>
            <a:chOff x="520560" y="2708280"/>
            <a:chExt cx="3403080" cy="388440"/>
          </a:xfrm>
        </p:grpSpPr>
        <p:sp>
          <p:nvSpPr>
            <p:cNvPr id="379" name="Text Box 21"/>
            <p:cNvSpPr/>
            <p:nvPr/>
          </p:nvSpPr>
          <p:spPr>
            <a:xfrm>
              <a:off x="520560" y="2728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"/>
            <p:cNvSpPr/>
            <p:nvPr/>
          </p:nvSpPr>
          <p:spPr>
            <a:xfrm>
              <a:off x="971280" y="2923200"/>
              <a:ext cx="7203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23"/>
            <p:cNvSpPr/>
            <p:nvPr/>
          </p:nvSpPr>
          <p:spPr>
            <a:xfrm>
              <a:off x="168840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4"/>
          <p:cNvGrpSpPr/>
          <p:nvPr/>
        </p:nvGrpSpPr>
        <p:grpSpPr>
          <a:xfrm>
            <a:off x="469440" y="3133800"/>
            <a:ext cx="3507840" cy="368280"/>
            <a:chOff x="469440" y="3133800"/>
            <a:chExt cx="3507840" cy="368280"/>
          </a:xfrm>
        </p:grpSpPr>
        <p:sp>
          <p:nvSpPr>
            <p:cNvPr id="383" name="Text Box 25"/>
            <p:cNvSpPr/>
            <p:nvPr/>
          </p:nvSpPr>
          <p:spPr>
            <a:xfrm>
              <a:off x="46944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6"/>
            <p:cNvSpPr/>
            <p:nvPr/>
          </p:nvSpPr>
          <p:spPr>
            <a:xfrm>
              <a:off x="1402560" y="3356280"/>
              <a:ext cx="360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169056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469440" y="3567240"/>
            <a:ext cx="3457440" cy="368280"/>
            <a:chOff x="469440" y="3567240"/>
            <a:chExt cx="3457440" cy="368280"/>
          </a:xfrm>
        </p:grpSpPr>
        <p:sp>
          <p:nvSpPr>
            <p:cNvPr id="387" name="Text Box 29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"/>
            <p:cNvSpPr/>
            <p:nvPr/>
          </p:nvSpPr>
          <p:spPr>
            <a:xfrm>
              <a:off x="1186920" y="378792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31"/>
            <p:cNvSpPr/>
            <p:nvPr/>
          </p:nvSpPr>
          <p:spPr>
            <a:xfrm>
              <a:off x="169164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32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3"/>
          <p:cNvSpPr/>
          <p:nvPr/>
        </p:nvSpPr>
        <p:spPr>
          <a:xfrm>
            <a:off x="435672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4"/>
          <p:cNvSpPr/>
          <p:nvPr/>
        </p:nvSpPr>
        <p:spPr>
          <a:xfrm>
            <a:off x="73512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35"/>
          <p:cNvGrpSpPr/>
          <p:nvPr/>
        </p:nvGrpSpPr>
        <p:grpSpPr>
          <a:xfrm>
            <a:off x="297000" y="4724280"/>
            <a:ext cx="3912840" cy="368280"/>
            <a:chOff x="297000" y="4724280"/>
            <a:chExt cx="3912840" cy="368280"/>
          </a:xfrm>
        </p:grpSpPr>
        <p:sp>
          <p:nvSpPr>
            <p:cNvPr id="394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1826640" y="4918680"/>
              <a:ext cx="1085040" cy="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38"/>
            <p:cNvSpPr/>
            <p:nvPr/>
          </p:nvSpPr>
          <p:spPr>
            <a:xfrm>
              <a:off x="2834280" y="472428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Group 39"/>
          <p:cNvGrpSpPr/>
          <p:nvPr/>
        </p:nvGrpSpPr>
        <p:grpSpPr>
          <a:xfrm>
            <a:off x="501480" y="5149800"/>
            <a:ext cx="3349080" cy="368280"/>
            <a:chOff x="501480" y="5149800"/>
            <a:chExt cx="3349080" cy="368280"/>
          </a:xfrm>
        </p:grpSpPr>
        <p:sp>
          <p:nvSpPr>
            <p:cNvPr id="398" name="Text Box 40"/>
            <p:cNvSpPr/>
            <p:nvPr/>
          </p:nvSpPr>
          <p:spPr>
            <a:xfrm>
              <a:off x="50148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1110960" y="537120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161532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Oval 43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 CuadroTexto"/>
          <p:cNvSpPr/>
          <p:nvPr/>
        </p:nvSpPr>
        <p:spPr>
          <a:xfrm>
            <a:off x="307800" y="33336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tretch/>
        </p:blipFill>
        <p:spPr>
          <a:xfrm>
            <a:off x="4889520" y="620640"/>
            <a:ext cx="42195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sp>
        <p:nvSpPr>
          <p:cNvPr id="68" name="Line 15"/>
          <p:cNvSpPr/>
          <p:nvPr/>
        </p:nvSpPr>
        <p:spPr>
          <a:xfrm flipH="1">
            <a:off x="2857320" y="2143080"/>
            <a:ext cx="580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3258360" y="425520"/>
            <a:ext cx="784080" cy="482400"/>
            <a:chOff x="3258360" y="425520"/>
            <a:chExt cx="784080" cy="482400"/>
          </a:xfrm>
        </p:grpSpPr>
        <p:sp>
          <p:nvSpPr>
            <p:cNvPr id="70" name="Text Box 3"/>
            <p:cNvSpPr/>
            <p:nvPr/>
          </p:nvSpPr>
          <p:spPr>
            <a:xfrm>
              <a:off x="32583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4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5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73" name="Text Box 6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Oval 8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3564000" y="4365720"/>
            <a:ext cx="934920" cy="349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2928960" y="25718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 rot="18720000">
            <a:off x="3603960" y="1889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5715000" y="2143080"/>
            <a:ext cx="50472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5867280" y="4429080"/>
            <a:ext cx="5050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929040" y="4643280"/>
            <a:ext cx="0" cy="500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2500200" y="4572000"/>
            <a:ext cx="1000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 flipH="1">
            <a:off x="2142720" y="2714760"/>
            <a:ext cx="8571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"/>
          <p:cNvGrpSpPr/>
          <p:nvPr/>
        </p:nvGrpSpPr>
        <p:grpSpPr>
          <a:xfrm>
            <a:off x="3255120" y="425520"/>
            <a:ext cx="784080" cy="480600"/>
            <a:chOff x="3255120" y="425520"/>
            <a:chExt cx="784080" cy="480600"/>
          </a:xfrm>
        </p:grpSpPr>
        <p:sp>
          <p:nvSpPr>
            <p:cNvPr id="89" name="Text Box 4"/>
            <p:cNvSpPr/>
            <p:nvPr/>
          </p:nvSpPr>
          <p:spPr>
            <a:xfrm>
              <a:off x="325512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"/>
            <p:cNvSpPr/>
            <p:nvPr/>
          </p:nvSpPr>
          <p:spPr>
            <a:xfrm>
              <a:off x="3707280" y="619920"/>
              <a:ext cx="1440" cy="2862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92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3492360" y="836640"/>
            <a:ext cx="501840" cy="1150560"/>
            <a:chOff x="3492360" y="836640"/>
            <a:chExt cx="501840" cy="1150560"/>
          </a:xfrm>
        </p:grpSpPr>
        <p:sp>
          <p:nvSpPr>
            <p:cNvPr id="98" name="Rectangle 13"/>
            <p:cNvSpPr/>
            <p:nvPr/>
          </p:nvSpPr>
          <p:spPr>
            <a:xfrm>
              <a:off x="3492360" y="836640"/>
              <a:ext cx="501840" cy="288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>
              <a:off x="3778920" y="1124640"/>
              <a:ext cx="1080" cy="8625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2411280" y="1916280"/>
            <a:ext cx="1079280" cy="431640"/>
            <a:chOff x="2411280" y="1916280"/>
            <a:chExt cx="1079280" cy="431640"/>
          </a:xfrm>
        </p:grpSpPr>
        <p:sp>
          <p:nvSpPr>
            <p:cNvPr id="101" name="Rectangle 16"/>
            <p:cNvSpPr/>
            <p:nvPr/>
          </p:nvSpPr>
          <p:spPr>
            <a:xfrm>
              <a:off x="2411280" y="1916280"/>
              <a:ext cx="6102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17"/>
            <p:cNvSpPr/>
            <p:nvPr/>
          </p:nvSpPr>
          <p:spPr>
            <a:xfrm>
              <a:off x="3058200" y="2132640"/>
              <a:ext cx="432360" cy="1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1835280" y="4221000"/>
            <a:ext cx="1726560" cy="719280"/>
            <a:chOff x="1835280" y="4221000"/>
            <a:chExt cx="1726560" cy="719280"/>
          </a:xfrm>
        </p:grpSpPr>
        <p:sp>
          <p:nvSpPr>
            <p:cNvPr id="104" name="Rectangle 19"/>
            <p:cNvSpPr/>
            <p:nvPr/>
          </p:nvSpPr>
          <p:spPr>
            <a:xfrm>
              <a:off x="1835280" y="4221000"/>
              <a:ext cx="719640" cy="719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>
              <a:off x="2554920" y="4580640"/>
              <a:ext cx="100692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21"/>
          <p:cNvGrpSpPr/>
          <p:nvPr/>
        </p:nvGrpSpPr>
        <p:grpSpPr>
          <a:xfrm>
            <a:off x="5866920" y="4221000"/>
            <a:ext cx="1224000" cy="501840"/>
            <a:chOff x="5866920" y="4221000"/>
            <a:chExt cx="1224000" cy="501840"/>
          </a:xfrm>
        </p:grpSpPr>
        <p:sp>
          <p:nvSpPr>
            <p:cNvPr id="107" name="Rectangle 22"/>
            <p:cNvSpPr/>
            <p:nvPr/>
          </p:nvSpPr>
          <p:spPr>
            <a:xfrm>
              <a:off x="6300720" y="4221000"/>
              <a:ext cx="790200" cy="501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3"/>
            <p:cNvSpPr/>
            <p:nvPr/>
          </p:nvSpPr>
          <p:spPr>
            <a:xfrm flipH="1">
              <a:off x="5866920" y="4436280"/>
              <a:ext cx="43524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2698920" y="4723920"/>
            <a:ext cx="934560" cy="505080"/>
            <a:chOff x="2698920" y="4723920"/>
            <a:chExt cx="934560" cy="505080"/>
          </a:xfrm>
        </p:grpSpPr>
        <p:sp>
          <p:nvSpPr>
            <p:cNvPr id="110" name="Rectangle 25"/>
            <p:cNvSpPr/>
            <p:nvPr/>
          </p:nvSpPr>
          <p:spPr>
            <a:xfrm>
              <a:off x="2698920" y="4798080"/>
              <a:ext cx="609840" cy="4309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 flipV="1">
              <a:off x="3346920" y="4723920"/>
              <a:ext cx="286560" cy="1465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539640" y="404640"/>
            <a:ext cx="799308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reacciones que permiten reponer intermediarios del Ciclo de Krebs que han sido sustraídos por otras rutas biosinté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un equilibrio de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409248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57172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7664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40040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903240" y="1484280"/>
            <a:ext cx="7628040" cy="662040"/>
            <a:chOff x="903240" y="1484280"/>
            <a:chExt cx="7628040" cy="662040"/>
          </a:xfrm>
        </p:grpSpPr>
        <p:sp>
          <p:nvSpPr>
            <p:cNvPr id="121" name="Rectangle 2"/>
            <p:cNvSpPr/>
            <p:nvPr/>
          </p:nvSpPr>
          <p:spPr>
            <a:xfrm>
              <a:off x="903240" y="1484280"/>
              <a:ext cx="762804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3"/>
            <p:cNvGrpSpPr/>
            <p:nvPr/>
          </p:nvGrpSpPr>
          <p:grpSpPr>
            <a:xfrm>
              <a:off x="4969440" y="1745640"/>
              <a:ext cx="683640" cy="142200"/>
              <a:chOff x="4969440" y="1745640"/>
              <a:chExt cx="683640" cy="142200"/>
            </a:xfrm>
          </p:grpSpPr>
          <p:sp>
            <p:nvSpPr>
              <p:cNvPr id="123" name="Line 4"/>
              <p:cNvSpPr/>
              <p:nvPr/>
            </p:nvSpPr>
            <p:spPr>
              <a:xfrm>
                <a:off x="4969440" y="174564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5"/>
              <p:cNvSpPr/>
              <p:nvPr/>
            </p:nvSpPr>
            <p:spPr>
              <a:xfrm>
                <a:off x="4969440" y="188676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Text Box 6"/>
          <p:cNvSpPr/>
          <p:nvPr/>
        </p:nvSpPr>
        <p:spPr>
          <a:xfrm>
            <a:off x="519120" y="387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900000" y="2852640"/>
            <a:ext cx="7632720" cy="649440"/>
            <a:chOff x="900000" y="2852640"/>
            <a:chExt cx="7632720" cy="649440"/>
          </a:xfrm>
        </p:grpSpPr>
        <p:sp>
          <p:nvSpPr>
            <p:cNvPr id="128" name="Rectangle 9"/>
            <p:cNvSpPr/>
            <p:nvPr/>
          </p:nvSpPr>
          <p:spPr>
            <a:xfrm>
              <a:off x="900000" y="2852640"/>
              <a:ext cx="763272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H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Group 10"/>
            <p:cNvGrpSpPr/>
            <p:nvPr/>
          </p:nvGrpSpPr>
          <p:grpSpPr>
            <a:xfrm>
              <a:off x="5219640" y="3152880"/>
              <a:ext cx="655560" cy="133200"/>
              <a:chOff x="5219640" y="3152880"/>
              <a:chExt cx="655560" cy="133200"/>
            </a:xfrm>
          </p:grpSpPr>
          <p:sp>
            <p:nvSpPr>
              <p:cNvPr id="130" name="Line 11"/>
              <p:cNvSpPr/>
              <p:nvPr/>
            </p:nvSpPr>
            <p:spPr>
              <a:xfrm>
                <a:off x="5219640" y="3152880"/>
                <a:ext cx="65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5219640" y="3284640"/>
                <a:ext cx="65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13"/>
          <p:cNvGrpSpPr/>
          <p:nvPr/>
        </p:nvGrpSpPr>
        <p:grpSpPr>
          <a:xfrm>
            <a:off x="909720" y="4638600"/>
            <a:ext cx="7323120" cy="448200"/>
            <a:chOff x="909720" y="4638600"/>
            <a:chExt cx="7323120" cy="448200"/>
          </a:xfrm>
        </p:grpSpPr>
        <p:sp>
          <p:nvSpPr>
            <p:cNvPr id="133" name="Rectangle 14"/>
            <p:cNvSpPr/>
            <p:nvPr/>
          </p:nvSpPr>
          <p:spPr>
            <a:xfrm>
              <a:off x="909720" y="4638600"/>
              <a:ext cx="732312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15"/>
            <p:cNvGrpSpPr/>
            <p:nvPr/>
          </p:nvGrpSpPr>
          <p:grpSpPr>
            <a:xfrm>
              <a:off x="4168080" y="4782240"/>
              <a:ext cx="684000" cy="151560"/>
              <a:chOff x="4168080" y="4782240"/>
              <a:chExt cx="684000" cy="151560"/>
            </a:xfrm>
          </p:grpSpPr>
          <p:sp>
            <p:nvSpPr>
              <p:cNvPr id="135" name="Line 16"/>
              <p:cNvSpPr/>
              <p:nvPr/>
            </p:nvSpPr>
            <p:spPr>
              <a:xfrm>
                <a:off x="4168080" y="4782240"/>
                <a:ext cx="684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4168080" y="4932720"/>
                <a:ext cx="6840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18"/>
          <p:cNvGrpSpPr/>
          <p:nvPr/>
        </p:nvGrpSpPr>
        <p:grpSpPr>
          <a:xfrm>
            <a:off x="890640" y="5769000"/>
            <a:ext cx="7858080" cy="662040"/>
            <a:chOff x="890640" y="5769000"/>
            <a:chExt cx="7858080" cy="662040"/>
          </a:xfrm>
        </p:grpSpPr>
        <p:sp>
          <p:nvSpPr>
            <p:cNvPr id="138" name="Rectangle 19"/>
            <p:cNvSpPr/>
            <p:nvPr/>
          </p:nvSpPr>
          <p:spPr>
            <a:xfrm>
              <a:off x="890640" y="576900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</a:t>
              </a:r>
              <a:r>
                <a:rPr b="1" lang="es-ES" sz="2000" spc="-1" strike="noStrike" baseline="30000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20"/>
            <p:cNvGrpSpPr/>
            <p:nvPr/>
          </p:nvGrpSpPr>
          <p:grpSpPr>
            <a:xfrm>
              <a:off x="4940280" y="6059520"/>
              <a:ext cx="555480" cy="140760"/>
              <a:chOff x="4940280" y="6059520"/>
              <a:chExt cx="555480" cy="140760"/>
            </a:xfrm>
          </p:grpSpPr>
          <p:sp>
            <p:nvSpPr>
              <p:cNvPr id="140" name="Line 21"/>
              <p:cNvSpPr/>
              <p:nvPr/>
            </p:nvSpPr>
            <p:spPr>
              <a:xfrm>
                <a:off x="4940280" y="6059520"/>
                <a:ext cx="5554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22"/>
              <p:cNvSpPr/>
              <p:nvPr/>
            </p:nvSpPr>
            <p:spPr>
              <a:xfrm>
                <a:off x="4940280" y="6198840"/>
                <a:ext cx="5554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Rectangle 23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68360" y="5408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468360" y="1052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b0f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b0f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Comic Sans MS"/>
              </a:rPr>
              <a:t>FUNCIONES DEL CICLO DE KRE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457200" y="1397160"/>
            <a:ext cx="8229600" cy="4984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atabó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Producción de energía metabólica en forma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Producción de la mayor parte del CO</a:t>
            </a:r>
            <a:r>
              <a:rPr b="1" lang="es-E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de la cél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abó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Provisión de citrato a partir del cual se obtiene el precursor para la síntesis de ácidos grasos (Acetil-Co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Provisión de precursores para la síntesis de aminoácidos, nucleótidos y porfirinas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864800" y="69228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3711240" y="1773360"/>
            <a:ext cx="3025440" cy="1295280"/>
            <a:chOff x="3711240" y="1773360"/>
            <a:chExt cx="3025440" cy="1295280"/>
          </a:xfrm>
        </p:grpSpPr>
        <p:sp>
          <p:nvSpPr>
            <p:cNvPr id="150" name="Text Box 4"/>
            <p:cNvSpPr/>
            <p:nvPr/>
          </p:nvSpPr>
          <p:spPr>
            <a:xfrm>
              <a:off x="4433040" y="249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54" name="Text Box 8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8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541440" y="2798640"/>
            <a:ext cx="2826360" cy="916920"/>
            <a:chOff x="541440" y="2798640"/>
            <a:chExt cx="2826360" cy="916920"/>
          </a:xfrm>
        </p:grpSpPr>
        <p:sp>
          <p:nvSpPr>
            <p:cNvPr id="162" name="Text Box 16"/>
            <p:cNvSpPr/>
            <p:nvPr/>
          </p:nvSpPr>
          <p:spPr>
            <a:xfrm>
              <a:off x="541440" y="3246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17"/>
            <p:cNvSpPr/>
            <p:nvPr/>
          </p:nvSpPr>
          <p:spPr>
            <a:xfrm>
              <a:off x="1619280" y="3337560"/>
              <a:ext cx="1657440" cy="378000"/>
            </a:xfrm>
            <a:prstGeom prst="leftArrow">
              <a:avLst>
                <a:gd name="adj1" fmla="val 59343"/>
                <a:gd name="adj2" fmla="val 7517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1524240" y="2798640"/>
              <a:ext cx="18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  <a:ea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fravega</cp:lastModifiedBy>
  <dcterms:modified xsi:type="dcterms:W3CDTF">2016-09-04T17:03:10Z</dcterms:modified>
  <cp:revision>75</cp:revision>
  <dc:subject/>
  <dc:title>Diapositiva 1</dc:title>
</cp:coreProperties>
</file>